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04CF-7218-49DC-A588-F41CA7E0D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91F2-5F35-4141-B13F-5F9A3BA3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AA24-0D11-4F68-AD2B-5147CFC2B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F75A-EA47-4CD6-8129-00AA301CB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86702E-3098-4961-AB32-AD114919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5B3EDD-43E7-4A3C-80D2-34C020CD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A97A63-53A7-46D1-8CD8-C6338483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65683-22BE-41AF-B7A5-90F36414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9E1E3-E749-4ADA-9B53-37171555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6802B-D00F-4956-AB93-4215B7A5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05F7F-2ADB-41A2-883C-6C8D890F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A0CD-E872-4768-8CA5-DE5DE4F9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773FE-1714-496D-BD36-146EA687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BD611-14DA-464F-BFE8-DE7EA485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90D0A-C99E-4498-9A57-834FEB87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07C4B-03CD-419E-8EDD-87C0A54FD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84C4A-D531-4DC0-A574-B160A9079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5432-7624-4C99-B8AA-5A2E56CD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1710-A6CC-4B73-A2EE-5A5CF34B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C5D4-4E7F-4050-88EC-78ECB2DE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765E-1278-4247-BFDD-A860C3BC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856F-60C3-40FD-A6E0-FA023BA8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BE62-54C0-4D24-BE7E-ACB4AE2D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DBC7-4C16-48BA-B46F-635905D5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3C2D-FF6C-497F-AB58-77FEE52E85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71C7-C208-45CD-804D-95C666FE31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00"/>
                </a:solidFill>
                <a:latin typeface="Arial"/>
              </a:rPr>
              <a:t>La mansi</a:t>
            </a:r>
            <a:r>
              <a:rPr b="0" lang="en-US" sz="5400" spc="-1" strike="noStrike">
                <a:solidFill>
                  <a:srgbClr val="00ff00"/>
                </a:solidFill>
                <a:latin typeface="Arial"/>
                <a:ea typeface="Arial"/>
              </a:rPr>
              <a:t>ó</a:t>
            </a:r>
            <a:r>
              <a:rPr b="0" lang="en-US" sz="5400" spc="-1" strike="noStrike">
                <a:solidFill>
                  <a:srgbClr val="00ff00"/>
                </a:solidFill>
                <a:latin typeface="Arial"/>
              </a:rPr>
              <a:t>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 Sav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50760"/>
            <a:ext cx="10210680" cy="6807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fde5"/>
                </a:solidFill>
                <a:latin typeface="Arial"/>
              </a:rPr>
              <a:t>La mansi</a:t>
            </a:r>
            <a:r>
              <a:rPr b="0" lang="en-US" sz="4400" spc="-1" strike="noStrike">
                <a:solidFill>
                  <a:srgbClr val="ebfde5"/>
                </a:solidFill>
                <a:latin typeface="Arial"/>
                <a:ea typeface="Arial"/>
              </a:rPr>
              <a:t>ó</a:t>
            </a:r>
            <a:r>
              <a:rPr b="0" lang="en-US" sz="4400" spc="-1" strike="noStrike">
                <a:solidFill>
                  <a:srgbClr val="ebfde5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a mansion. Es muy grande and lujos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a cocina Es moderno y incred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Una Cocin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 comedo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el comedor. Es bonito y bell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 Cuart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el cuarto. Es estupendo y bell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 ba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  <a:ea typeface="Arial"/>
              </a:rPr>
              <a:t>ñ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Es el ba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Arial"/>
              </a:rPr>
              <a:t>ñ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o. Es bello y nuve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482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 Pati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el patio. Es magnifico y moder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07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 Jardi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el jardin. Es muy grande y boni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 Garaj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el garaje. Es nuevo y gran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3:17:48Z</dcterms:created>
  <dc:creator>savageben</dc:creator>
  <dc:description/>
  <dc:language>en-US</dc:language>
  <cp:lastModifiedBy>savageben</cp:lastModifiedBy>
  <dcterms:modified xsi:type="dcterms:W3CDTF">2013-04-03T17:50:31Z</dcterms:modified>
  <cp:revision>7</cp:revision>
  <dc:subject/>
  <dc:title>La cabana</dc:title>
</cp:coreProperties>
</file>